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4338-7CAB-425B-80F2-FBFC63EDD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1C9F-054A-465D-A93D-138B6FDD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77CBD0B-F51B-4AF3-9535-ED4CEDB178C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DBC5C01-4591-4329-81F3-7B38316068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2A8BD3D-76AA-4C91-BF4B-44A5207194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B6C4F6-CC53-401F-A5DC-1226B5D6CD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3002A2-9478-4A7C-BD9D-F76B9A470F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21535B-6526-4FE3-AAF9-561A36FC2F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1FE3432-B06B-455A-8D9C-D391AF6AF8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C306F70-8E6C-431B-B8EE-464F87D315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3A32398-2160-4D5E-B2E8-50079F48C4A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0BF113F-0412-44B6-A584-22B8CD9CF4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E0E93-D17B-463F-B781-350B3B4EA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F5435E4-E111-4F28-B413-DFE1C9011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E7E50DF-E26D-4BBF-AC48-F364DCC81C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DBCA38-FB23-4C42-9A67-71AD6ED3B0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FD16E7-8F0F-43A1-ABB4-575DFC550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147B280-BFAD-4EA2-B609-91691099A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63984A-8DA8-4B76-8E08-353D3DEBF2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0BC147-FCD8-475C-A9DB-DAB65D57D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74E161F-3D6D-476E-AD9A-C2B7A85BE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A453B9C-2561-4865-9D9A-1510D9676A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57548B3-81E8-41A9-841A-162ABD4189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A0933-341C-465E-A13A-05BCFF5B5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7100800-1072-4F6A-85C3-4B73F83B65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A59D4C-BD47-4B7F-AA6C-6DC5C55788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1DD617-6EBE-4C36-9F97-385F98BDD5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0B6322-299A-41F6-9987-525F6430A2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11892E-3F9A-4048-9937-984C216C6E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8F84A-659D-49E3-8613-46F330C9FC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A94118-EF03-4F86-8752-6464616B24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2B3EDC-87DE-44C6-846C-662E45E698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760085-3BF0-450B-9258-79AB47427D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283147-F30F-44D3-B4CE-14EE486B8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288F4-ABA1-49DE-96DD-CC014B6B9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7A9732-394C-4351-879A-0929237937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E6AAFF-06E0-4F87-AD65-62708CE02F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FE96A9-3368-4149-A90E-376002B071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46E115A-9EFB-4C9D-B95D-2D1E3ADB25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461E6A-F19C-47C7-BF68-CC11D012D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D8654CD-20A9-4279-8648-CF3DFA4EB4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6ED2E79-74CB-4532-9E5A-D842CE893A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3B891A7-06C7-4109-A032-5071630FC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57A137-F18D-4E8D-B4E8-0DBDA0B130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014E8B-A3CE-4749-8861-1CAC46F98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ED7A0-BBD1-48A2-B356-8DA6108EC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2A334A9-2970-4182-B7FD-A50A37464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94939F-9158-45B5-A4D2-AB947B292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037EC64-8057-4CD0-972F-FFF7361B84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481EDA6-B5D6-413E-879B-D4DD7FE55C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04A3D46-26AC-4398-98EB-20FE26B0CA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61E0-2C03-4FA0-B093-BD428B109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6D6F7-5892-4712-B96F-505716C2E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BA639-6560-42ED-B00B-83BC2C127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23C73-34E9-4A5F-9B7F-D0C4AEBBC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D335B-D01E-4E45-8E60-C985AF0FE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E97BE-ABE0-4F1D-9D1E-3C9D0347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3A7C-91B2-4FA0-951E-1E473072A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6534-D45C-42CC-B2C3-68235577D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0B37C-C9BD-48AE-AE81-CAE02761E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F7E4C-31DA-4BA4-8D9A-E5C163DA2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BBC59-2F9C-4D53-A376-EDD5180CB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5AAAE-79F1-4348-842E-0CFAB338E9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7AD96-1B1C-4274-9887-3CE38B63D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93048-A03F-4A91-BA31-2DE61E837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C7868-154B-48B6-8C31-615D62E1F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F1C9F-7A65-4EE1-BFFA-EED14C4E4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EC0A-2C36-479B-AA2D-D529834AC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8400C-8BDE-44ED-9525-E002070D7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821EE-B9EC-41F7-9A36-84687BEAD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26DD3-C5E2-4DC6-9B0D-6CF10F351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731FA-EE57-4720-A71D-342A044CE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44551-F322-4EE8-93E3-0726EBF31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FF762-5AD5-404F-BC54-82337C8BF0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C73E5-F13D-4FD6-B9CE-5453BAFF08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49D6943-FF93-44DA-86BE-C40676574A2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480B27-FFC4-460E-ABB7-7134C74367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DB4FCE0-E0A3-4AE4-9728-766399B7A5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2CC9-8CE8-461A-9D22-387001AF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6EAA2D7-AE8A-46AC-BEE4-7F14B5F52C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D3D8E6-7360-470B-A06E-0C6C005243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DDA69F0-BCB5-456C-AFC2-556E80E7797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C3A0E34-AFB9-4A08-A024-16D265AEE3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AD9578-35B8-441E-92D4-622DD07C71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CA1F6D6-3E7D-494F-87FF-F123AF63EE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08E8C8-A41F-4964-AE69-63606695E1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3465369-0F0E-4BD8-A0F5-4B43A3B48E7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FF0ED43-66CD-41E8-9514-0A77EC22B1F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6F4DD5-8B08-4DE8-B187-911E1F1E37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4C0F-E737-4987-B8F9-05270AD0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CE8F5-24DC-40F3-B111-867B4314C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2EE856-5995-4608-BC61-BD0B7EEF5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BAF31-DA4B-4FD6-A262-EF191DC6D9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5B502-1315-4695-A83F-997EB2025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F9704-606D-46C2-B6A9-92A15F2EE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4FA3B-9804-45D7-8AA0-E8DB3DEB7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F0D5F-6C3E-4BE6-84E6-8BB50154F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7A945-31A8-4818-81E8-8B50A489D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42497-7436-4B15-BD4E-0BBBA9B49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A2022-65ED-431F-BCDF-6FAC1E118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E92AF-599F-48C9-8656-612590C71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BC851A-C199-4EA4-9221-9F3191298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9D6A50-3FBA-431B-A375-B99344B5BB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B5F9C-09F8-49E9-A527-85329C98D7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F8E10-9BFB-4D78-ADAD-B805CA8B7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F35196-A829-43BD-8F77-A743EBC53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2D33F-7095-431E-9E91-FA471B091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6BE5A-76A2-4655-9EC6-A5D738BCA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D8378-8C93-4C7E-B2E1-46744FEC0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318385-B334-4A28-8029-22FDC819B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6111E-D826-48F9-9262-6CAB86773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85EE-5304-4177-B133-4EA2CC85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A8FC6-2FB6-4C73-A605-FFEC187278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2CD355-16F7-404C-98D9-C0775A9675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A4F505-0CC3-4184-8353-945728B50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8F41B0-EF3F-429F-861C-F73E6F6D2A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E3736B-1961-43C7-A742-B7BAF7B40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C77FD-90EA-4C89-9E31-E9883BB42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7B06A-7F60-4DF1-80EB-CFF046840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10389-AED3-4199-8F30-94B187403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40507-D1D8-4BB5-B3DE-AA174A8AA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0EF7A-3BA4-426F-851D-5C6D21D54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3091B-6388-449A-96CD-41FC3465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D5116-15E0-4909-B11F-F6A545320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D4B16-E5A7-43F3-A3C4-3C2F68DAD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627EF-FE11-4D96-A1FD-8C335E3B4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9D6952-3200-4B3F-AFF5-7D0DE0DDCF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D0502-A74E-43CA-9A8F-EF884F6775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3E003E-4BA4-4B2D-9412-47827ED60E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152D3-B025-438D-BD86-6099BF4277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AEE130-5586-45A9-B4EF-7D1230CE2E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B8C57-A766-43A0-88ED-19152E494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C3E096-833E-443F-90FA-15936B1673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1609B-2AA5-4D58-956F-531C27A8E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DA10C1-EE9A-445B-A539-8F26007FA9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B5EED-4D96-42B6-9EA5-1DC17101B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90550-B77F-40F6-A0F8-649A53EE8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88CD4-52D9-4B12-823C-42CE53059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52F18-98F3-470A-82B9-114C4874FD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2FE5C0-F6A8-4549-9755-FBCD4EE0B3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07CF4C-0C12-4DF2-AA74-C315AF27D4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911626B-688F-4537-9005-6FC378CE08E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89152DE-DA2D-495C-884C-563574C840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CCD0BD-6D87-4158-BAE7-AF3AF05E715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3113-1323-415A-9DA7-608A25D40C75}"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B244-7FB8-4274-A498-49B8CBDA335B}"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A371-86A1-475C-AFB5-46A0BCFF987B}"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F9E-A68D-4772-8F53-C25E2E6B0228}"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2176-02EA-49E9-AA3F-73A50156FCC4}"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859F-8DAF-43D9-B996-9C6C2B641610}"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8CF6-3A4E-48E6-9D30-3D23C8ACA462}"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9B3F-326D-4DEE-9F65-A59996D3B4C5}"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9933-A3D7-435E-B7CF-78EF712DBB11}"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DC62-676F-42F8-95B1-834BEBB44F36}"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4D1C-0576-4534-8D98-ECF937EFA065}" type="slidenum">
              <a:rPr b="0" lang="en-CA"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D1D1-FA4E-4A31-BBE5-3B8DABEEDE8A}" type="slidenum">
              <a:rPr b="0" lang="en-CA"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estia.com/PM.qst?a=o&amp;d=27849895" TargetMode="External"/><Relationship Id="rId2" Type="http://schemas.openxmlformats.org/officeDocument/2006/relationships/hyperlink" Target="http://www.questia.com/PM.qst?a=o&amp;d=27849895"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2666520"/>
            <a:ext cx="7619760" cy="350532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2. READ CORY’S BRIEF ARTICLE, “THE POOR SCHOLAR’S SOLILOQUY,” AT </a:t>
            </a:r>
            <a:r>
              <a:rPr b="0" lang="en-US" sz="1600" spc="-1" strike="noStrike" u="sng">
                <a:solidFill>
                  <a:srgbClr val="00a3d6"/>
                </a:solidFill>
                <a:uFillTx/>
                <a:latin typeface="Georgia"/>
                <a:hlinkClick r:id="rId1"/>
              </a:rPr>
              <a:t>HTTP</a:t>
            </a:r>
            <a:r>
              <a:rPr b="0" lang="en-US" sz="1600" spc="-1" strike="noStrike" u="sng">
                <a:solidFill>
                  <a:srgbClr val="00a3d6"/>
                </a:solidFill>
                <a:uFillTx/>
                <a:latin typeface="Georgia"/>
                <a:hlinkClick r:id="rId2"/>
              </a:rPr>
              <a:t>://</a:t>
            </a:r>
            <a:r>
              <a:rPr b="1" lang="en-US" sz="1600" spc="-1" strike="noStrike">
                <a:solidFill>
                  <a:srgbClr val="646b86"/>
                </a:solidFill>
                <a:latin typeface="Georgia"/>
              </a:rPr>
              <a:t>WWW.QUESTIA.COM/PM.QST?A=O&amp;D=27849895 (WHICH REQUIRES YOU TO LOG IN YOUR CREDIT CARD NUMBER IN ORDER TO GET THE ENTIRE ARTICLE – BOO!).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IS PIECE WAS WRITTEN IN 1944. IS THE SITUATION THE BOY DESCRIBES STILL TYPICAL </a:t>
            </a:r>
            <a:br>
              <a:rPr sz="1600"/>
            </a:br>
            <a:r>
              <a:rPr b="1" lang="en-US" sz="1600" spc="-1" strike="noStrike">
                <a:solidFill>
                  <a:srgbClr val="646b86"/>
                </a:solidFill>
                <a:latin typeface="Georgia"/>
              </a:rPr>
              <a:t>OF AMERICAN EDUCATION? CAN YOU CITE WAYS IN WHICH MORE CONSTRUCTIVIST APPROACHES COULD BENEFIT THIS CHILD?</a:t>
            </a:r>
            <a:endParaRPr b="0" lang="en-US" sz="1600" spc="-1" strike="noStrike">
              <a:solidFill>
                <a:srgbClr val="000000"/>
              </a:solidFill>
              <a:latin typeface="Georgia"/>
            </a:endParaRPr>
          </a:p>
        </p:txBody>
      </p:sp>
      <p:sp>
        <p:nvSpPr>
          <p:cNvPr id="607" name="PlaceHolder 2"/>
          <p:cNvSpPr>
            <a:spLocks noGrp="1"/>
          </p:cNvSpPr>
          <p:nvPr>
            <p:ph type="title"/>
          </p:nvPr>
        </p:nvSpPr>
        <p:spPr>
          <a:xfrm>
            <a:off x="609480" y="5331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hapter 2</a:t>
            </a:r>
            <a:br>
              <a:rPr sz="4200"/>
            </a:br>
            <a:r>
              <a:rPr b="0" lang="en-US" sz="4200" spc="-1" strike="noStrike">
                <a:solidFill>
                  <a:srgbClr val="d16349"/>
                </a:solidFill>
                <a:latin typeface="Georgia"/>
              </a:rPr>
              <a:t>Question 2</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t>
            </a:r>
            <a:r>
              <a:rPr b="1" lang="en-US" sz="1600" spc="-1" strike="noStrike">
                <a:solidFill>
                  <a:srgbClr val="646b86"/>
                </a:solidFill>
                <a:latin typeface="Georgia"/>
              </a:rPr>
              <a:t>ROMANCING A GENERATION?”</a:t>
            </a: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Poor Scholar:Questioning Constructiv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4800" spc="-1" strike="noStrike">
                <a:solidFill>
                  <a:srgbClr val="000000"/>
                </a:solidFill>
                <a:latin typeface="Georgia"/>
              </a:rPr>
              <a:t>The central educational fallacy of our time:</a:t>
            </a:r>
            <a:br>
              <a:rPr sz="4800"/>
            </a:br>
            <a:r>
              <a:rPr b="0" lang="en-US" sz="4800" spc="-1" strike="noStrike">
                <a:solidFill>
                  <a:srgbClr val="000000"/>
                </a:solidFill>
                <a:latin typeface="Georgia"/>
              </a:rPr>
              <a:t>that one can think without having anything to think about." </a:t>
            </a:r>
            <a:endParaRPr b="0" lang="en-US" sz="4800" spc="-1" strike="noStrike">
              <a:solidFill>
                <a:srgbClr val="000000"/>
              </a:solidFill>
              <a:latin typeface="Georgia"/>
            </a:endParaRPr>
          </a:p>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Georgia"/>
              </a:rPr>
              <a:t>- Heather Mac Donald</a:t>
            </a:r>
            <a:r>
              <a:rPr b="0" lang="en-US" sz="4800" spc="-1" strike="noStrike">
                <a:solidFill>
                  <a:srgbClr val="000000"/>
                </a:solidFill>
                <a:latin typeface="Georgia"/>
              </a:rPr>
              <a:t> </a:t>
            </a:r>
            <a:endParaRPr b="0" lang="en-US" sz="4800" spc="-1" strike="noStrike">
              <a:solidFill>
                <a:srgbClr val="000000"/>
              </a:solidFill>
              <a:latin typeface="Georgia"/>
            </a:endParaRPr>
          </a:p>
          <a:p>
            <a:pPr marL="272880" indent="-272880">
              <a:lnSpc>
                <a:spcPct val="90000"/>
              </a:lnSpc>
              <a:spcBef>
                <a:spcPts val="11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Kids Can’t Read or do Math, but they still feel really good about themselves</a:t>
            </a:r>
            <a:endParaRPr b="0" lang="en-US" sz="3000" spc="-1" strike="noStrike">
              <a:solidFill>
                <a:srgbClr val="7b9899"/>
              </a:solidFill>
              <a:latin typeface="Georgia"/>
            </a:endParaRPr>
          </a:p>
        </p:txBody>
      </p:sp>
      <p:sp>
        <p:nvSpPr>
          <p:cNvPr id="629" name=""/>
          <p:cNvSpPr txBox="1"/>
          <p:nvPr/>
        </p:nvSpPr>
        <p:spPr>
          <a:xfrm>
            <a:off x="457200" y="1600200"/>
            <a:ext cx="8229600" cy="4572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0" name="Picture 3" descr="pix_constructivism.jpg"/>
          <p:cNvPicPr/>
          <p:nvPr/>
        </p:nvPicPr>
        <p:blipFill>
          <a:blip r:embed="rId1"/>
          <a:stretch/>
        </p:blipFill>
        <p:spPr>
          <a:xfrm>
            <a:off x="152280" y="1523880"/>
            <a:ext cx="8763120" cy="518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e Cynic’s Testimony:</a:t>
            </a:r>
            <a:endParaRPr b="0" lang="en-US" sz="3300" spc="-1" strike="noStrike">
              <a:solidFill>
                <a:srgbClr val="7b9899"/>
              </a:solidFill>
              <a:latin typeface="Georgia"/>
            </a:endParaRPr>
          </a:p>
        </p:txBody>
      </p:sp>
      <p:sp>
        <p:nvSpPr>
          <p:cNvPr id="632" name=""/>
          <p:cNvSpPr txBox="1"/>
          <p:nvPr/>
        </p:nvSpPr>
        <p:spPr>
          <a:xfrm>
            <a:off x="-360" y="1599840"/>
            <a:ext cx="8991720" cy="396252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r>
              <a:rPr b="0" lang="en-CA" sz="2700" spc="-1" strike="noStrike">
                <a:solidFill>
                  <a:srgbClr val="000000"/>
                </a:solidFill>
                <a:latin typeface="Georgia"/>
              </a:rPr>
              <a:t>Hirsh (2001) As a society, we've been chasing the chimera of progressive education through most of the 20th century, and now it's come home with a vengeance.  Points to consider:</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3" name="Picture 2" descr="http://marwarakha.com/wordpress/wp-content/uploads/2010/06/Dangling-Carrot.jpg"/>
          <p:cNvPicPr/>
          <p:nvPr/>
        </p:nvPicPr>
        <p:blipFill>
          <a:blip r:embed="rId1"/>
          <a:stretch/>
        </p:blipFill>
        <p:spPr>
          <a:xfrm>
            <a:off x="914400" y="3352680"/>
            <a:ext cx="7238880" cy="335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1</a:t>
            </a:r>
            <a:endParaRPr b="0" lang="en-US" sz="3300" spc="-1" strike="noStrike">
              <a:solidFill>
                <a:srgbClr val="7b9899"/>
              </a:solidFill>
              <a:latin typeface="Georgia"/>
            </a:endParaRPr>
          </a:p>
        </p:txBody>
      </p:sp>
      <p:sp>
        <p:nvSpPr>
          <p:cNvPr id="635" name=""/>
          <p:cNvSpPr txBox="1"/>
          <p:nvPr/>
        </p:nvSpPr>
        <p:spPr>
          <a:xfrm>
            <a:off x="301320" y="1526760"/>
            <a:ext cx="8504280" cy="418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e have kids who can't read or spell very well, can't multiply or make change without a calculator, can't form logical arguments and can't think coherently, who don't know the difference between the Civil War and the American Revolution, never heard of the Reformation or the Enlightenment, and who haven't a clue what Charlemagne, Newton, Jefferson or Dickens did.</a:t>
            </a:r>
            <a:endParaRPr b="0" lang="en-US" sz="2700" spc="-1" strike="noStrike">
              <a:solidFill>
                <a:srgbClr val="000000"/>
              </a:solidFill>
              <a:latin typeface="Georgia"/>
            </a:endParaRPr>
          </a:p>
        </p:txBody>
      </p:sp>
      <p:pic>
        <p:nvPicPr>
          <p:cNvPr id="636" name="Picture 2" descr="http://www.wpclipart.com/toys/blocks/abc_blocks.png"/>
          <p:cNvPicPr/>
          <p:nvPr/>
        </p:nvPicPr>
        <p:blipFill>
          <a:blip r:embed="rId1"/>
          <a:stretch/>
        </p:blipFill>
        <p:spPr>
          <a:xfrm>
            <a:off x="6477120" y="4537080"/>
            <a:ext cx="2385720" cy="23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38" name=""/>
          <p:cNvSpPr txBox="1"/>
          <p:nvPr/>
        </p:nvSpPr>
        <p:spPr>
          <a:xfrm>
            <a:off x="301320" y="1527120"/>
            <a:ext cx="4575240" cy="487368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Georgia"/>
              </a:rPr>
              <a:t>They can't sit still because no one ever told them to just sit down and listen, they can't think or work independently because they've been depending on their collaborative workgroups since Kindergarten, and they don't know how to ask questions because they have little experience in dealing with definite factual answers</a:t>
            </a:r>
            <a:endParaRPr b="0" lang="en-US" sz="2500" spc="-1" strike="noStrike">
              <a:solidFill>
                <a:srgbClr val="000000"/>
              </a:solidFill>
              <a:latin typeface="Georgia"/>
            </a:endParaRPr>
          </a:p>
        </p:txBody>
      </p:sp>
      <p:pic>
        <p:nvPicPr>
          <p:cNvPr id="639" name="Picture 2" descr="http://www.divawhispers.com/wp-content/uploads/2011/09/head-silhouette-with-question-mark.png"/>
          <p:cNvPicPr/>
          <p:nvPr/>
        </p:nvPicPr>
        <p:blipFill>
          <a:blip r:embed="rId1"/>
          <a:stretch/>
        </p:blipFill>
        <p:spPr>
          <a:xfrm>
            <a:off x="4800600" y="1523880"/>
            <a:ext cx="414972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41" name=""/>
          <p:cNvSpPr txBox="1"/>
          <p:nvPr/>
        </p:nvSpPr>
        <p:spPr>
          <a:xfrm>
            <a:off x="301320" y="1526760"/>
            <a:ext cx="8504280" cy="4111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Later in life, they take vacations to places they can't find on a map.</a:t>
            </a:r>
            <a:endParaRPr b="0" lang="en-US" sz="2700" spc="-1" strike="noStrike">
              <a:solidFill>
                <a:srgbClr val="000000"/>
              </a:solidFill>
              <a:latin typeface="Georgia"/>
            </a:endParaRPr>
          </a:p>
        </p:txBody>
      </p:sp>
      <p:pic>
        <p:nvPicPr>
          <p:cNvPr id="642" name="Picture 2" descr="http://images.clipartof.com/thumbnails/441661-Cartoon-Lost-Hiker-Using-A-Map.jpg"/>
          <p:cNvPicPr/>
          <p:nvPr/>
        </p:nvPicPr>
        <p:blipFill>
          <a:blip r:embed="rId1"/>
          <a:stretch/>
        </p:blipFill>
        <p:spPr>
          <a:xfrm>
            <a:off x="2895480" y="3048120"/>
            <a:ext cx="3241800" cy="31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44" name=""/>
          <p:cNvSpPr txBox="1"/>
          <p:nvPr/>
        </p:nvSpPr>
        <p:spPr>
          <a:xfrm>
            <a:off x="301320" y="1527120"/>
            <a:ext cx="4041720" cy="4950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ut they do have terrific self-esteem, a sense of entitlement, and have been romanced into thinking the real world will make allowances for them.</a:t>
            </a:r>
            <a:endParaRPr b="0" lang="en-US" sz="2700" spc="-1" strike="noStrike">
              <a:solidFill>
                <a:srgbClr val="000000"/>
              </a:solidFill>
              <a:latin typeface="Georgia"/>
            </a:endParaRPr>
          </a:p>
        </p:txBody>
      </p:sp>
      <p:pic>
        <p:nvPicPr>
          <p:cNvPr id="645" name="Picture 2" descr="http://mindcafe.org/images/confidence/build-confidence.jpg"/>
          <p:cNvPicPr/>
          <p:nvPr/>
        </p:nvPicPr>
        <p:blipFill>
          <a:blip r:embed="rId1"/>
          <a:stretch/>
        </p:blipFill>
        <p:spPr>
          <a:xfrm>
            <a:off x="4343400" y="1523880"/>
            <a:ext cx="43052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ouble at the Happiest School on Earth.'</a:t>
            </a:r>
            <a:endParaRPr b="0" lang="en-US" sz="3300" spc="-1" strike="noStrike">
              <a:solidFill>
                <a:srgbClr val="7b9899"/>
              </a:solidFill>
              <a:latin typeface="Georgia"/>
            </a:endParaRPr>
          </a:p>
        </p:txBody>
      </p:sp>
      <p:sp>
        <p:nvSpPr>
          <p:cNvPr id="647" name=""/>
          <p:cNvSpPr txBox="1"/>
          <p:nvPr/>
        </p:nvSpPr>
        <p:spPr>
          <a:xfrm>
            <a:off x="0" y="1599840"/>
            <a:ext cx="9144000" cy="5257800"/>
          </a:xfrm>
          <a:prstGeom prst="rect">
            <a:avLst/>
          </a:prstGeom>
          <a:noFill/>
          <a:ln w="0">
            <a:noFill/>
          </a:ln>
        </p:spPr>
        <p:txBody>
          <a:bodyPr anchor="t">
            <a:normAutofit fontScale="97000"/>
          </a:bodyPr>
          <a:p>
            <a:pPr marL="264600" indent="-2646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ccording to the New York Times, the Disney school was to follow the 'most advanced' progressive educational methods. ... Such methods, although they have been in use for decades, have rarely worked well. The Celebration School was no exception. The Times article began, 'The start of the school year here is just a few days away, so it was no surprise that there was a line of parents at the Celebration School office the other day. </a:t>
            </a:r>
            <a:r>
              <a:rPr b="1" lang="en-US" sz="2500" spc="-1" strike="noStrike">
                <a:solidFill>
                  <a:srgbClr val="000000"/>
                </a:solidFill>
                <a:latin typeface="Georgia"/>
              </a:rPr>
              <a:t>But the reason for the line was: they were queuing up to withdraw their children.</a:t>
            </a:r>
            <a:r>
              <a:rPr b="0" lang="en-US" sz="2500" spc="-1" strike="noStrike">
                <a:solidFill>
                  <a:srgbClr val="000000"/>
                </a:solidFill>
                <a:latin typeface="Georgia"/>
              </a:rPr>
              <a:t>' Parents said they were dissatisfied with the lack of clear academic goals and measures of achievement, as well as with the lack of order and structure that accompanied the progressive methods.“ (Hirsch 2001)</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rther Research to refute constructivism</a:t>
            </a: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One researcher believes memorization has become archaic and has more or less been fully replaced by a more constructivist approach. Michael Knox-Baren (2004) stated “...if there’s one thing progressive educators don’t like it’s rote learning. As a result, we now have several generations of Americans who’ve never memorized much of anything. Even highly educated people in their thirties and forties are often unable to recite half a dozen lines of classic poetry or prose.”</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pic>
        <p:nvPicPr>
          <p:cNvPr id="609" name="Picture 2" descr=""/>
          <p:cNvPicPr/>
          <p:nvPr/>
        </p:nvPicPr>
        <p:blipFill>
          <a:blip r:embed="rId1"/>
          <a:stretch/>
        </p:blipFill>
        <p:spPr>
          <a:xfrm>
            <a:off x="0" y="-1143000"/>
            <a:ext cx="9144000" cy="1403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51" name=""/>
          <p:cNvSpPr txBox="1"/>
          <p:nvPr/>
        </p:nvSpPr>
        <p:spPr>
          <a:xfrm>
            <a:off x="301320" y="1527120"/>
            <a:ext cx="8504280" cy="39592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log post from Michael Kaechele from Michigan,US, a teacher in a problem based learning school “Is rote memorization a 21</a:t>
            </a:r>
            <a:r>
              <a:rPr b="0" lang="en-CA" sz="2700" spc="-1" strike="noStrike" baseline="30000">
                <a:solidFill>
                  <a:srgbClr val="000000"/>
                </a:solidFill>
                <a:latin typeface="Georgia"/>
              </a:rPr>
              <a:t>st</a:t>
            </a:r>
            <a:r>
              <a:rPr b="0" lang="en-CA" sz="2700" spc="-1" strike="noStrike">
                <a:solidFill>
                  <a:srgbClr val="000000"/>
                </a:solidFill>
                <a:latin typeface="Georgia"/>
              </a:rPr>
              <a:t> Century skill? One of the things that has amazed me in my 5 years of teaching a Grade 6 math-focused technology class is how many kids do not know the answer to simple math problems like 3 x 7. They want to use a calculator for basic math fac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2" name="Picture 2" descr="http://www.crossfitlondon.ca/wp/wp-content/uploads/2011/11/calculatorrgb.jpg"/>
          <p:cNvPicPr/>
          <p:nvPr/>
        </p:nvPicPr>
        <p:blipFill>
          <a:blip r:embed="rId1"/>
          <a:stretch/>
        </p:blipFill>
        <p:spPr>
          <a:xfrm>
            <a:off x="3657600" y="4648320"/>
            <a:ext cx="1905120" cy="190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ot totally against it but raises a good point:</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Kirshner, Sweller, Clark (2006) The advantage of guidance begins to recede only when learners have sufficiently high prior knowledge to provide “internal” guidance.</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sically, the research indicates that 21</a:t>
            </a:r>
            <a:r>
              <a:rPr b="0" lang="en-US" sz="2700" spc="-1" strike="noStrike" baseline="30000">
                <a:solidFill>
                  <a:srgbClr val="000000"/>
                </a:solidFill>
                <a:latin typeface="Georgia"/>
              </a:rPr>
              <a:t>st</a:t>
            </a:r>
            <a:r>
              <a:rPr b="0" lang="en-US" sz="2700" spc="-1" strike="noStrike">
                <a:solidFill>
                  <a:srgbClr val="000000"/>
                </a:solidFill>
                <a:latin typeface="Georgia"/>
              </a:rPr>
              <a:t> century classrooms may need a marriage of both inquiry and memorization/coverage and that “The Scholar’s Soliloquy”-with its irony and humour- is indeed still relevant for our professional reflectio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ibliography:</a:t>
            </a:r>
            <a:endParaRPr b="0" lang="en-US" sz="33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Romancing The Child"</a:t>
            </a:r>
            <a:r>
              <a:rPr b="0" lang="en-US" sz="2700" spc="-1" strike="noStrike">
                <a:solidFill>
                  <a:srgbClr val="000000"/>
                </a:solidFill>
                <a:latin typeface="Georgia"/>
              </a:rPr>
              <a:t> by E. D. Hirsch Jr., Education Matters, Spring 2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www.city-journal.org/html/14_3_defense_memorization.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concretekax.blogspot.ca/2009/07/is-rote-memorization-20th-century-skill.htm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000000"/>
                </a:solidFill>
                <a:uFillTx/>
                <a:latin typeface="Georgia"/>
              </a:rPr>
              <a:t>http://voiced.ca/?p=16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ad, Fraud, and Folly in Education by Martin A. Kozloff, University of North Carolina, Wilmington, November 200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pic>
        <p:nvPicPr>
          <p:cNvPr id="611" name="Picture 2" descr=""/>
          <p:cNvPicPr/>
          <p:nvPr/>
        </p:nvPicPr>
        <p:blipFill>
          <a:blip r:embed="rId1"/>
          <a:stretch/>
        </p:blipFill>
        <p:spPr>
          <a:xfrm>
            <a:off x="-228600" y="-7848720"/>
            <a:ext cx="9372600" cy="143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do believe that this scenario still describes a typical public education. There is a surplus of mandatory curriculum outcomes that have little, if any, ties to the real world for students. It may be that there are practical applications for these outcomes but they are not properly explained by teachers or interacted with in a way that engages student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	</a:t>
            </a:r>
            <a:r>
              <a:rPr b="1" lang="en-US" sz="2500" spc="-1" strike="noStrike">
                <a:solidFill>
                  <a:srgbClr val="000000"/>
                </a:solidFill>
                <a:latin typeface="Georgia"/>
              </a:rPr>
              <a:t>Integration to foster creative problem solving and metacognition.</a:t>
            </a:r>
            <a:r>
              <a:rPr b="0" lang="en-US" sz="2500" spc="-1" strike="noStrike">
                <a:solidFill>
                  <a:srgbClr val="000000"/>
                </a:solidFill>
                <a:latin typeface="Georgia"/>
              </a:rPr>
              <a:t> This article is overflowing with examples of how to use creative problem solving. These include: calculating oil consumption for a trip, understanding diesel engine pumps, managing stock to sell at market, billing farmers, practical measurements, shop creations for real-life applications, and practical civic duties that matter in the here and now. A constructivist teacher would have their students run with these ideas and then document their evolution using technology to share with and explain to their classmate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fontScale="95000"/>
          </a:bodyPr>
          <a:p>
            <a:pPr marL="259200" indent="-259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Integration to help build mental models and increase knowledge transfer. </a:t>
            </a:r>
            <a:r>
              <a:rPr b="0" lang="en-US" sz="2700" spc="-1" strike="noStrike">
                <a:solidFill>
                  <a:srgbClr val="000000"/>
                </a:solidFill>
                <a:latin typeface="Georgia"/>
              </a:rPr>
              <a:t> Within each of this student’s extra-curricular activities are many compound problems to solve. To learn each of these in isolation would be relatively meaningless and dull due to a lack of real-world application. A constructivist teacher would embrace this student’s work outside of school and work to deconstruct the components to view them individually and to better appreciate them as they work in a real-world collective. This also shows how problem-solving skills can be relevant to learn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Integration to foster group cooperation skills.</a:t>
            </a:r>
            <a:r>
              <a:rPr b="0" lang="en-US" sz="2700" spc="-1" strike="noStrike">
                <a:solidFill>
                  <a:srgbClr val="000000"/>
                </a:solidFill>
                <a:latin typeface="Georgia"/>
              </a:rPr>
              <a:t> The student’s participation in the civic duties of volunteering to clean up a neighbourhood park and build a playground would require many hands. This would also require planning for manpower (scheduling), purchasing (math and budgeting), fund-raising (math and social studies), and building (measurement, physical education, and physics). Any and all of these would require group cooperation. Any constructivist teacher would see the depth of potential for student learning to happen he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	</a:t>
            </a:r>
            <a:r>
              <a:rPr b="1" lang="en-US" sz="2500" spc="-1" strike="noStrike">
                <a:solidFill>
                  <a:srgbClr val="000000"/>
                </a:solidFill>
                <a:latin typeface="Georgia"/>
              </a:rPr>
              <a:t>Integration to allow for multiple and distributed intelligences.</a:t>
            </a:r>
            <a:r>
              <a:rPr b="0" lang="en-US" sz="2500" spc="-1" strike="noStrike">
                <a:solidFill>
                  <a:srgbClr val="000000"/>
                </a:solidFill>
                <a:latin typeface="Georgia"/>
              </a:rPr>
              <a:t> A constructivist teacher would have their class complete intelligence inventories to discover where individuals’ strengths lie. This would allow the students to best align themselves to the parts of the jobs that would need to be done to work through the types of real-world problems the student has written about in this article. Students would build self-esteem knowing that they could use their strengths to assist in completing a task. This would also allow students to see how many different strengths can work together (see fostering group cooperation skills) to complete a real-world task.</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Georgia"/>
              </a:rPr>
              <a:t>Phye (1997) states that constructivism is a movement that combines cognition from a developmental perspective with other important issues, such as motivation, self-directed learning, and a focus on the social context of learning.</a:t>
            </a:r>
            <a:endParaRPr b="0" lang="en-US" sz="1800" spc="-1" strike="noStrike">
              <a:solidFill>
                <a:srgbClr val="7b9899"/>
              </a:solidFill>
              <a:latin typeface="Georgia"/>
            </a:endParaRPr>
          </a:p>
        </p:txBody>
      </p:sp>
      <p:sp>
        <p:nvSpPr>
          <p:cNvPr id="623" name=""/>
          <p:cNvSpPr txBox="1"/>
          <p:nvPr/>
        </p:nvSpPr>
        <p:spPr>
          <a:xfrm>
            <a:off x="301320" y="1527120"/>
            <a:ext cx="8504280" cy="4873680"/>
          </a:xfrm>
          <a:prstGeom prst="rect">
            <a:avLst/>
          </a:prstGeom>
          <a:noFill/>
          <a:ln w="0">
            <a:noFill/>
          </a:ln>
        </p:spPr>
        <p:txBody>
          <a:bodyPr anchor="t">
            <a:normAutofit/>
          </a:bodyPr>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These constructivist approaches could benefit this child:</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llowing independence and opportunities to take initiativ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Providing hand-on activiti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Link learning to real life possibilitie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Building on students’ prior-knowledg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discussion with teacher and other student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sking open-ended questions</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Allowing response tim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inquiry-base learning</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Flexibility in lesson</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Using precise words such as create, predict, classify and analyse</a:t>
            </a:r>
            <a:endParaRPr b="0" lang="en-US" sz="1900" spc="-1" strike="noStrike">
              <a:solidFill>
                <a:srgbClr val="000000"/>
              </a:solidFill>
              <a:latin typeface="Georgia"/>
            </a:endParaRPr>
          </a:p>
          <a:p>
            <a:pPr marL="272880" indent="-27288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Encouraging exploration and questioning of hypotheses</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Georgia"/>
              </a:rPr>
              <a:t>Reference</a:t>
            </a:r>
            <a:endParaRPr b="0" lang="en-US" sz="1900" spc="-1" strike="noStrike">
              <a:solidFill>
                <a:srgbClr val="000000"/>
              </a:solidFill>
              <a:latin typeface="Georg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u="sng">
                <a:solidFill>
                  <a:srgbClr val="000000"/>
                </a:solidFill>
                <a:uFillTx/>
                <a:latin typeface="Georgia"/>
              </a:rPr>
              <a:t>http://www.pbs.org/teacherline/courses/inst335/docs/inst335_brooks.pdf</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3T18:49:25Z</dcterms:created>
  <dc:creator>ladmin</dc:creator>
  <dc:description/>
  <dc:language>en-US</dc:language>
  <cp:lastModifiedBy>Mike</cp:lastModifiedBy>
  <dcterms:modified xsi:type="dcterms:W3CDTF">2012-07-10T01:54:01Z</dcterms:modified>
  <cp:revision>4</cp:revision>
  <dc:subject/>
  <dc:title>Slide 1</dc:title>
</cp:coreProperties>
</file>